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0D18-77FB-4821-A13A-554E8E6D8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87A7-F0F4-4027-B706-D7790078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5629-5FCB-4881-8F06-7DC164784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EDDD-5A14-4E2E-B962-366600FD9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C80A-76E4-4A65-A3CB-FAC6ECC2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E0F-3F27-482A-9DF1-5FA6D402E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F4A-B188-4876-A3AB-0260881E1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E712-28DD-4FBE-B98B-2DA4D4BD5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ABAB-090E-4D9A-A23D-069759071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956F-1F65-47FA-AF73-B218FE9B4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97D9-E5AC-4C5D-818D-62753FE19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DF35-BD97-4E3A-A070-9A5BD1680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97D1-422A-4D09-A31F-21EBFA6FC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1297-226F-478B-971A-254B192B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182-CA32-4057-BFCE-3BA72CDE6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3DE2-1207-44F9-B1E3-11D4F3E17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75D5-9B11-44D5-8551-1F9C4756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357-03F0-4818-B9FD-A4E5249B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8BA-F5DC-4B3E-99EF-96434FEB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A98-B726-409F-8972-DE6396F9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2CF-107B-4B89-A8A3-2EB9173F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676-B392-4B09-9505-CCF82A30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78D-4BB9-48F1-B17D-07074833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A61-16BA-476C-BEF0-AAF993DA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E9B-13A1-4D73-B464-73B9C6D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C08-44CE-498B-B7B7-D8E9C7E5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D32-B233-4920-A565-ED0776E6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D04-F1EF-4F6E-86FA-1919B446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03D-45F0-4BEE-9EA3-10CE15C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6EFC-24AD-4064-A739-8102D6FE8C82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ADF6-B2E3-47B0-81DA-652627BA86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0E32-B6BB-47DD-B204-EAC6551EBAE4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Year 12 What you should know alread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20" descr="Glucose"/>
          <p:cNvPicPr/>
          <p:nvPr/>
        </p:nvPicPr>
        <p:blipFill>
          <a:blip r:embed="rId1"/>
          <a:stretch/>
        </p:blipFill>
        <p:spPr>
          <a:xfrm>
            <a:off x="6156360" y="4149720"/>
            <a:ext cx="26272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2877-E651-4029-805D-5A28B7584226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248520" y="990720"/>
            <a:ext cx="2514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Arc 3"/>
          <p:cNvSpPr/>
          <p:nvPr/>
        </p:nvSpPr>
        <p:spPr>
          <a:xfrm flipV="1" rot="2700000">
            <a:off x="6781680" y="144720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ome simple compound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228600" y="990720"/>
            <a:ext cx="2514600" cy="2178720"/>
            <a:chOff x="228600" y="990720"/>
            <a:chExt cx="2514600" cy="2178720"/>
          </a:xfrm>
        </p:grpSpPr>
        <p:sp>
          <p:nvSpPr>
            <p:cNvPr id="111" name="Text Box 6"/>
            <p:cNvSpPr/>
            <p:nvPr/>
          </p:nvSpPr>
          <p:spPr>
            <a:xfrm>
              <a:off x="228600" y="990720"/>
              <a:ext cx="2514600" cy="217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Methane, C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12" name="Object 7"/>
            <p:cNvGraphicFramePr/>
            <p:nvPr/>
          </p:nvGraphicFramePr>
          <p:xfrm>
            <a:off x="533520" y="990720"/>
            <a:ext cx="1752480" cy="173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90720"/>
                      <a:ext cx="175248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" name="Rectangle 8"/>
          <p:cNvSpPr/>
          <p:nvPr/>
        </p:nvSpPr>
        <p:spPr>
          <a:xfrm>
            <a:off x="3200400" y="990720"/>
            <a:ext cx="2514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733920" y="19051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191e4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Line 10"/>
          <p:cNvSpPr/>
          <p:nvPr/>
        </p:nvSpPr>
        <p:spPr>
          <a:xfrm flipH="1">
            <a:off x="3962520" y="16002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80060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191e4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4572000" y="16002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3429000" y="26668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ter,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rc 14"/>
          <p:cNvSpPr/>
          <p:nvPr/>
        </p:nvSpPr>
        <p:spPr>
          <a:xfrm rot="18900000">
            <a:off x="6781320" y="137160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Arc 15"/>
          <p:cNvSpPr/>
          <p:nvPr/>
        </p:nvSpPr>
        <p:spPr>
          <a:xfrm rot="18900000">
            <a:off x="7772400" y="14479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rc 16"/>
          <p:cNvSpPr/>
          <p:nvPr/>
        </p:nvSpPr>
        <p:spPr>
          <a:xfrm flipV="1" rot="2700000">
            <a:off x="7772040" y="152388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7238880" y="1371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c2c2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324480" y="2209680"/>
            <a:ext cx="2210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bon dioxide,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228600" y="3352680"/>
            <a:ext cx="25146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57200" y="5029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hyne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7" name="Object 21"/>
          <p:cNvGraphicFramePr/>
          <p:nvPr/>
        </p:nvGraphicFramePr>
        <p:xfrm>
          <a:off x="304920" y="4038480"/>
          <a:ext cx="236196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8480"/>
                    <a:ext cx="2361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Group 22"/>
          <p:cNvGrpSpPr/>
          <p:nvPr/>
        </p:nvGrpSpPr>
        <p:grpSpPr>
          <a:xfrm>
            <a:off x="3200400" y="3352680"/>
            <a:ext cx="2514600" cy="3048120"/>
            <a:chOff x="3200400" y="3352680"/>
            <a:chExt cx="2514600" cy="3048120"/>
          </a:xfrm>
        </p:grpSpPr>
        <p:sp>
          <p:nvSpPr>
            <p:cNvPr id="130" name="Rectangle 23"/>
            <p:cNvSpPr/>
            <p:nvPr/>
          </p:nvSpPr>
          <p:spPr>
            <a:xfrm>
              <a:off x="3200400" y="3352680"/>
              <a:ext cx="251460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31" name="Object 24"/>
            <p:cNvGraphicFramePr/>
            <p:nvPr/>
          </p:nvGraphicFramePr>
          <p:xfrm>
            <a:off x="3504960" y="3429000"/>
            <a:ext cx="1811520" cy="19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4960" y="3429000"/>
                      <a:ext cx="18115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25"/>
            <p:cNvSpPr/>
            <p:nvPr/>
          </p:nvSpPr>
          <p:spPr>
            <a:xfrm>
              <a:off x="3429000" y="5334120"/>
              <a:ext cx="2209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ulphuric acid, 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4" name="Oval 26"/>
          <p:cNvSpPr/>
          <p:nvPr/>
        </p:nvSpPr>
        <p:spPr>
          <a:xfrm>
            <a:off x="8153280" y="1447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6324480" y="1447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4114800" y="1295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9"/>
          <p:cNvGrpSpPr/>
          <p:nvPr/>
        </p:nvGrpSpPr>
        <p:grpSpPr>
          <a:xfrm>
            <a:off x="6172200" y="3276720"/>
            <a:ext cx="2743200" cy="3393000"/>
            <a:chOff x="6172200" y="3276720"/>
            <a:chExt cx="2743200" cy="3393000"/>
          </a:xfrm>
        </p:grpSpPr>
        <p:grpSp>
          <p:nvGrpSpPr>
            <p:cNvPr id="138" name="Group 30"/>
            <p:cNvGrpSpPr/>
            <p:nvPr/>
          </p:nvGrpSpPr>
          <p:grpSpPr>
            <a:xfrm>
              <a:off x="6172200" y="3962520"/>
              <a:ext cx="609480" cy="2666880"/>
              <a:chOff x="6172200" y="3962520"/>
              <a:chExt cx="609480" cy="2666880"/>
            </a:xfrm>
          </p:grpSpPr>
          <p:sp>
            <p:nvSpPr>
              <p:cNvPr id="139" name="Oval 31"/>
              <p:cNvSpPr/>
              <p:nvPr/>
            </p:nvSpPr>
            <p:spPr>
              <a:xfrm>
                <a:off x="6400440" y="3962520"/>
                <a:ext cx="304560" cy="304560"/>
              </a:xfrm>
              <a:prstGeom prst="ellipse">
                <a:avLst/>
              </a:prstGeom>
              <a:gradFill rotWithShape="0">
                <a:gsLst>
                  <a:gs pos="0">
                    <a:srgbClr val="9191e4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Oval 32"/>
              <p:cNvSpPr/>
              <p:nvPr/>
            </p:nvSpPr>
            <p:spPr>
              <a:xfrm>
                <a:off x="6248160" y="4495680"/>
                <a:ext cx="533160" cy="533520"/>
              </a:xfrm>
              <a:prstGeom prst="ellipse">
                <a:avLst/>
              </a:prstGeom>
              <a:gradFill rotWithShape="0">
                <a:gsLst>
                  <a:gs pos="0">
                    <a:srgbClr val="c2e1c2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Oval 33"/>
              <p:cNvSpPr/>
              <p:nvPr/>
            </p:nvSpPr>
            <p:spPr>
              <a:xfrm>
                <a:off x="6172200" y="5257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c2c2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2" name="Oval 34"/>
              <p:cNvSpPr/>
              <p:nvPr/>
            </p:nvSpPr>
            <p:spPr>
              <a:xfrm>
                <a:off x="6172200" y="60199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e7ce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43" name="Text Box 35"/>
            <p:cNvSpPr/>
            <p:nvPr/>
          </p:nvSpPr>
          <p:spPr>
            <a:xfrm>
              <a:off x="6705360" y="32767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omic Sans MS"/>
                </a:rPr>
                <a:t>Key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Text Box 36"/>
            <p:cNvSpPr/>
            <p:nvPr/>
          </p:nvSpPr>
          <p:spPr>
            <a:xfrm>
              <a:off x="7010280" y="3809880"/>
              <a:ext cx="1905120" cy="28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ydroge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rbo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ulphu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2E5E-2E19-4292-B298-38C127E83F8B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imple formulae to lear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71280" y="1412640"/>
            <a:ext cx="68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mic Sans MS"/>
              </a:rPr>
              <a:t>What do the numbers mean in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3 N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mic Sans MS"/>
              </a:rPr>
              <a:t>How many atoms of each type are there in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P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(C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E1A0-213F-4E27-849B-38C58B1976CF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Balancing Reactions 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1187280" y="1413000"/>
            <a:ext cx="6912000" cy="5021280"/>
            <a:chOff x="1187280" y="1413000"/>
            <a:chExt cx="6912000" cy="5021280"/>
          </a:xfrm>
        </p:grpSpPr>
        <p:grpSp>
          <p:nvGrpSpPr>
            <p:cNvPr id="157" name="Group 4"/>
            <p:cNvGrpSpPr/>
            <p:nvPr/>
          </p:nvGrpSpPr>
          <p:grpSpPr>
            <a:xfrm>
              <a:off x="1187280" y="1413000"/>
              <a:ext cx="6912000" cy="5021280"/>
              <a:chOff x="1187280" y="1413000"/>
              <a:chExt cx="6912000" cy="5021280"/>
            </a:xfrm>
          </p:grpSpPr>
          <p:sp>
            <p:nvSpPr>
              <p:cNvPr id="158" name="Text Box 5"/>
              <p:cNvSpPr/>
              <p:nvPr/>
            </p:nvSpPr>
            <p:spPr>
              <a:xfrm>
                <a:off x="1187280" y="1413000"/>
                <a:ext cx="2989440" cy="50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Mg    +    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Zn    +    HCl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Fe    +    Cl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NaOH    +    HCl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C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a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NaOH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S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3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H    +    O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        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Text Box 6"/>
              <p:cNvSpPr/>
              <p:nvPr/>
            </p:nvSpPr>
            <p:spPr>
              <a:xfrm>
                <a:off x="5219640" y="1413000"/>
                <a:ext cx="2879640" cy="47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Mg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ZnCl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FeCl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NaCl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C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a(OH)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Na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S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O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Line 7"/>
              <p:cNvSpPr/>
              <p:nvPr/>
            </p:nvSpPr>
            <p:spPr>
              <a:xfrm>
                <a:off x="4427640" y="1628640"/>
                <a:ext cx="431640" cy="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61" name="Line 8"/>
            <p:cNvSpPr/>
            <p:nvPr/>
          </p:nvSpPr>
          <p:spPr>
            <a:xfrm>
              <a:off x="4427640" y="220500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4427640" y="278136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4427640" y="32846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4427640" y="386064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4427640" y="43657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4427640" y="494172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4427640" y="544500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8" name="Text Box 15"/>
          <p:cNvSpPr/>
          <p:nvPr/>
        </p:nvSpPr>
        <p:spPr>
          <a:xfrm>
            <a:off x="1042920" y="1413000"/>
            <a:ext cx="2952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            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5003640" y="1413000"/>
            <a:ext cx="2448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BDA0-7E6F-45D9-9EBE-742C951616F6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C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11280" y="1268280"/>
            <a:ext cx="79930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dd calcium carbonate to some acid eg HCl or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C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bubbling it through limewater ( a solution of Ca(OH)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) and observing the solution go milk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28B9-40D7-4D40-9065-9C11E70874C9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H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11280" y="1268280"/>
            <a:ext cx="799308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dd Mg to some acid eg HCl or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igniting the gas using the pop te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7F22-8E75-44FA-9C9F-B10FE0DB9843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11280" y="1268280"/>
            <a:ext cx="799308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manganese dioxide and hydrogen peroxide in a test tube produces oxygen g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placing a glowing splint into the tube and seeing if it would relight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F877-259E-418D-8862-051F84A869BD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lements and symbols that you should know: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371-C10B-4B66-AA07-BF28FBE0BCCA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EFF1-5204-47A6-A3CF-CE0ECFDC5E95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99ccff"/>
                </a:solidFill>
                <a:latin typeface="Comic Sans MS"/>
              </a:rPr>
              <a:t>What is an ion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An anion is an atom that has gained electron(s) to form a (-) io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.g Cl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Chloride)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2-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Sulfide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or a cation is an atom that has lost electron(s) to form a (+) 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.g  Na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Sodium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2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iron (ll) ion) (aka Ferric ion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3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iron(lll) ion ) (Ferrou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D8E4-AC21-4CB8-9933-A0AF8BF05B50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formula for Ions that you should know: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1844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ccccff"/>
                </a:solidFill>
                <a:latin typeface="Comic Sans MS"/>
              </a:rPr>
              <a:t>Write the ion or name beside the follow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24000" y="2567160"/>
            <a:ext cx="2743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arbonat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Magnes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Oxid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ulphat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od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Iron (ll)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716360" y="2567160"/>
            <a:ext cx="27432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OH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l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i="1" lang="en-NZ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 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Pb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a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Fe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87640" y="2565360"/>
            <a:ext cx="12970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Li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Mg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0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a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Fe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00880" y="2565360"/>
            <a:ext cx="2643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Sulph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hlor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Nitrat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lumin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Lead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alc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Iron (lll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EE01-6B5C-48AA-A565-DD1DB93CD397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26028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Atoms and elem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 substance made of one type of atom is called an ele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ccccff"/>
                </a:solidFill>
                <a:latin typeface="Comic Sans MS"/>
              </a:rPr>
              <a:t>e.g. a piece of Aluminium (symbol Al) consists of only aluminium atoms bonded together and is called an </a:t>
            </a:r>
            <a:r>
              <a:rPr b="1" lang="en-NZ" sz="3200" spc="-1" strike="noStrike" u="sng">
                <a:solidFill>
                  <a:srgbClr val="66ff33"/>
                </a:solidFill>
                <a:uFillTx/>
                <a:latin typeface="Comic Sans MS"/>
              </a:rPr>
              <a:t>elem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C1D-EAE4-45DF-B6CC-5046AD341E36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Molecu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Some elements are unstable as single atoms and only exist as 2 atoms bonded together to form a </a:t>
            </a: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molecule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These are usually gas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.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, N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9711-B728-4036-9DE1-DAAA3549CDD4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Compounds and Molecu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Some compounds are molecules that contain 2 or more </a:t>
            </a: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different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atoms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covalently bonded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together. Some common molecular compounds are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carbon dioxide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(water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methan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2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glucos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96A2-6C06-477B-9369-0AE056CE21B4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Naming compound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79280" y="1916280"/>
            <a:ext cx="9361080" cy="3442320"/>
            <a:chOff x="179280" y="1916280"/>
            <a:chExt cx="9361080" cy="3442320"/>
          </a:xfrm>
        </p:grpSpPr>
        <p:sp>
          <p:nvSpPr>
            <p:cNvPr id="92" name="Text Box 5"/>
            <p:cNvSpPr/>
            <p:nvPr/>
          </p:nvSpPr>
          <p:spPr>
            <a:xfrm>
              <a:off x="179280" y="1916280"/>
              <a:ext cx="936108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ame the following elements 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5379840" y="3076920"/>
              <a:ext cx="416052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95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6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97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" name="Text Box 13"/>
          <p:cNvSpPr/>
          <p:nvPr/>
        </p:nvSpPr>
        <p:spPr>
          <a:xfrm>
            <a:off x="1403280" y="299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403280" y="3573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476360" y="414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516720" y="364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6443640" y="306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flou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6588000" y="4149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51:44Z</dcterms:created>
  <dc:creator>W Richards</dc:creator>
  <dc:description/>
  <dc:language>en-US</dc:language>
  <cp:lastModifiedBy>David</cp:lastModifiedBy>
  <dcterms:modified xsi:type="dcterms:W3CDTF">2011-02-01T07:57:05Z</dcterms:modified>
  <cp:revision>437</cp:revision>
  <dc:subject/>
  <dc:title>What you will need to remember from year 10…</dc:title>
</cp:coreProperties>
</file>